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A4E3-D763-452D-9387-5FEB634F8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7B5D-C88A-4479-B785-6A5B3005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A2C0-06B3-403E-BD57-B34F2876E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D92D-CDED-4E7E-98C5-FC645E937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610C-6D17-41C1-A263-5BFDF99ED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6B68-84E8-4096-A59F-18491518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51C9-27EB-4144-AB5E-D9EFE443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1DB7-C043-4ED3-8D7B-B7CF885C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D823-D38E-4F00-90DB-83524F39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A183-908D-4C76-93B5-AF823D38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6B82-4280-4D14-A3AF-0DE1BCE5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E8D6-A8A0-4A02-AA6B-D67B789C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C1FE-9BBC-4C24-8448-8A9F83A7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17DA-32EB-4C57-AE31-16493999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264D-0E83-475D-95FF-70F1167B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152D-19B0-432F-BF4B-701197DB5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EDC8-8C36-470E-A3A3-26EA09E59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850B-11DF-44DF-AB0C-F23EFCF7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0772-2BA1-4C8F-B66E-36C136AF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28FD-C71D-4323-A02E-E8489ECC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DB16-6CA0-499F-992A-A8759B8D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6D72-406A-42C4-8028-95DBD03E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4E72-87DA-4DD1-BC1A-6CB1C018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8BDA-D3B8-45BB-B12D-B2A15C29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576F-6E7B-42F6-8278-439AD279A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FCC1-E7F9-440A-AC08-ED7A1B8F7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2.xml"/><Relationship Id="rId8" Type="http://schemas.openxmlformats.org/officeDocument/2006/relationships/slide" Target="slide28.xml"/><Relationship Id="rId9" Type="http://schemas.openxmlformats.org/officeDocument/2006/relationships/slide" Target="slide20.xml"/><Relationship Id="rId10" Type="http://schemas.openxmlformats.org/officeDocument/2006/relationships/slide" Target="slide36.xml"/><Relationship Id="rId11" Type="http://schemas.openxmlformats.org/officeDocument/2006/relationships/slide" Target="slide14.xml"/><Relationship Id="rId12" Type="http://schemas.openxmlformats.org/officeDocument/2006/relationships/slide" Target="slide22.xml"/><Relationship Id="rId13" Type="http://schemas.openxmlformats.org/officeDocument/2006/relationships/slide" Target="slide30.xml"/><Relationship Id="rId14" Type="http://schemas.openxmlformats.org/officeDocument/2006/relationships/slide" Target="slide38.xml"/><Relationship Id="rId15" Type="http://schemas.openxmlformats.org/officeDocument/2006/relationships/slide" Target="slide16.xml"/><Relationship Id="rId16" Type="http://schemas.openxmlformats.org/officeDocument/2006/relationships/slide" Target="slide24.xml"/><Relationship Id="rId17" Type="http://schemas.openxmlformats.org/officeDocument/2006/relationships/slide" Target="slide32.xml"/><Relationship Id="rId18" Type="http://schemas.openxmlformats.org/officeDocument/2006/relationships/slide" Target="slide40.xml"/><Relationship Id="rId19" Type="http://schemas.openxmlformats.org/officeDocument/2006/relationships/slide" Target="slide18.xml"/><Relationship Id="rId20" Type="http://schemas.openxmlformats.org/officeDocument/2006/relationships/slide" Target="slide26.xml"/><Relationship Id="rId21" Type="http://schemas.openxmlformats.org/officeDocument/2006/relationships/slide" Target="slide34.xml"/><Relationship Id="rId22" Type="http://schemas.openxmlformats.org/officeDocument/2006/relationships/slide" Target="slide42.xml"/><Relationship Id="rId23" Type="http://schemas.openxmlformats.org/officeDocument/2006/relationships/slide" Target="slide44.xml"/><Relationship Id="rId24" Type="http://schemas.openxmlformats.org/officeDocument/2006/relationships/slide" Target="slide46.xml"/><Relationship Id="rId2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00200" y="318960"/>
            <a:ext cx="77580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ffff"/>
                </a:solidFill>
                <a:latin typeface="Britannic Bold"/>
              </a:rPr>
              <a:t>Jeopard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3"/>
          <p:cNvGraphicFramePr/>
          <p:nvPr/>
        </p:nvGraphicFramePr>
        <p:xfrm>
          <a:off x="838080" y="1523880"/>
          <a:ext cx="7774200" cy="463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23880"/>
                    <a:ext cx="7774200" cy="46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Text Box 8"/>
          <p:cNvSpPr/>
          <p:nvPr/>
        </p:nvSpPr>
        <p:spPr>
          <a:xfrm>
            <a:off x="6843600" y="17524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7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1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9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3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4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49"/>
          <p:cNvSpPr/>
          <p:nvPr/>
        </p:nvSpPr>
        <p:spPr>
          <a:xfrm>
            <a:off x="1066680" y="16002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Spel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50"/>
          <p:cNvSpPr/>
          <p:nvPr/>
        </p:nvSpPr>
        <p:spPr>
          <a:xfrm>
            <a:off x="2286000" y="16765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Miscellaneous</a:t>
            </a:r>
            <a:r>
              <a:rPr b="0" lang="en-US" sz="2000" spc="-1" strike="noStrike">
                <a:solidFill>
                  <a:srgbClr val="80808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52"/>
          <p:cNvSpPr/>
          <p:nvPr/>
        </p:nvSpPr>
        <p:spPr>
          <a:xfrm>
            <a:off x="4114800" y="15238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True or Fal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53"/>
          <p:cNvSpPr/>
          <p:nvPr/>
        </p:nvSpPr>
        <p:spPr>
          <a:xfrm>
            <a:off x="5562720" y="15238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Brain Bus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54"/>
          <p:cNvSpPr/>
          <p:nvPr/>
        </p:nvSpPr>
        <p:spPr>
          <a:xfrm>
            <a:off x="7086600" y="152388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Rules of gramm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500 Question from H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>
            <a:off x="347760" y="1523880"/>
            <a:ext cx="36342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Definatl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Conciou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Truely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Embarass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Reccome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Acommad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Benifi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4267080" y="2057400"/>
            <a:ext cx="38862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These are all spelled wro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Identify the spelling errors</a:t>
            </a: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500 Answer from H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2780640" y="1905120"/>
            <a:ext cx="3899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Definitely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Consciou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Trul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Embarrass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Recomme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Accommod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Benefi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100 Question from H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-293760" y="2971800"/>
            <a:ext cx="981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What rule does the word Receive follow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100 Answer from H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1754280" y="3168720"/>
            <a:ext cx="54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ff"/>
                </a:solidFill>
                <a:uFillTx/>
                <a:latin typeface="Britannic Bold"/>
              </a:rPr>
              <a:t>I</a:t>
            </a: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 before </a:t>
            </a:r>
            <a:r>
              <a:rPr b="0" lang="en-US" sz="3600" spc="-1" strike="noStrike" u="sng">
                <a:solidFill>
                  <a:srgbClr val="00ffff"/>
                </a:solidFill>
                <a:uFillTx/>
                <a:latin typeface="Britannic Bold"/>
              </a:rPr>
              <a:t>E</a:t>
            </a: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, except after </a:t>
            </a:r>
            <a:r>
              <a:rPr b="0" lang="en-US" sz="3600" spc="-1" strike="noStrike" u="sng">
                <a:solidFill>
                  <a:srgbClr val="00ffff"/>
                </a:solidFill>
                <a:uFillTx/>
                <a:latin typeface="Britannic Bold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200 Question from H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407160" y="3200400"/>
            <a:ext cx="865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Britannic Bold"/>
              </a:rPr>
              <a:t>What is Enthusiastic shortened?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200 Answer from H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1335600" y="2743200"/>
            <a:ext cx="708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You can’t shorten i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“</a:t>
            </a: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There is no creature enthused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300 Question from H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-228960" y="2743200"/>
            <a:ext cx="917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Britannic Bold"/>
              </a:rPr>
              <a:t>What is the past tense of drag?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300 Answer from H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1650960" y="3168720"/>
            <a:ext cx="7247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ffff"/>
                </a:solidFill>
                <a:uFillTx/>
                <a:latin typeface="Britannic Bold"/>
              </a:rPr>
              <a:t>Dragged</a:t>
            </a:r>
            <a:r>
              <a:rPr b="0" lang="en-US" sz="6000" spc="-1" strike="noStrike">
                <a:solidFill>
                  <a:srgbClr val="00ffff"/>
                </a:solidFill>
                <a:latin typeface="Britannic Bold"/>
              </a:rPr>
              <a:t>, not </a:t>
            </a:r>
            <a:r>
              <a:rPr b="0" lang="en-US" sz="6000" spc="-1" strike="noStrike" u="sng">
                <a:solidFill>
                  <a:srgbClr val="00ffff"/>
                </a:solidFill>
                <a:uFillTx/>
                <a:latin typeface="Britannic Bold"/>
              </a:rPr>
              <a:t>drug</a:t>
            </a:r>
            <a:r>
              <a:rPr b="0" lang="en-US" sz="6000" spc="-1" strike="noStrike">
                <a:solidFill>
                  <a:srgbClr val="00ffff"/>
                </a:solidFill>
                <a:latin typeface="Britannic Bold"/>
              </a:rPr>
              <a:t>.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$400 Question from H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1648800" y="3168720"/>
            <a:ext cx="749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What do you do to the word </a:t>
            </a:r>
            <a:r>
              <a:rPr b="0" lang="en-US" sz="3600" spc="-1" strike="noStrike" u="sng">
                <a:solidFill>
                  <a:srgbClr val="00ffff"/>
                </a:solidFill>
                <a:uFillTx/>
                <a:latin typeface="Britannic Bold"/>
              </a:rPr>
              <a:t>occu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when changing the form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(except for occur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400 Answer from H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2654640" y="2819520"/>
            <a:ext cx="342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Double the </a:t>
            </a:r>
            <a:r>
              <a:rPr b="0" lang="en-US" sz="4000" spc="-1" strike="noStrike" u="sng">
                <a:solidFill>
                  <a:srgbClr val="00ffff"/>
                </a:solidFill>
                <a:uFillTx/>
                <a:latin typeface="Britannic Bold"/>
              </a:rPr>
              <a:t>r</a:t>
            </a: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.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Box 6"/>
          <p:cNvSpPr/>
          <p:nvPr/>
        </p:nvSpPr>
        <p:spPr>
          <a:xfrm>
            <a:off x="2895480" y="3886200"/>
            <a:ext cx="3200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Britannic Bold"/>
              </a:rPr>
              <a:t>*occur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Britannic Bold"/>
              </a:rPr>
              <a:t>*occur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Britannic Bold"/>
              </a:rPr>
              <a:t>*occurr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Britannic Bold"/>
              </a:rPr>
              <a:t>*occurr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100 Question from H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561960" y="2819520"/>
            <a:ext cx="856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How do you spell the grade befor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first grad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100 Question from H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"/>
          <p:cNvSpPr/>
          <p:nvPr/>
        </p:nvSpPr>
        <p:spPr>
          <a:xfrm>
            <a:off x="1045080" y="2514600"/>
            <a:ext cx="7846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What kind of grammar part is thei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Britannic Bold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Expletive (filler wor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Britannic Bold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Possessive pronou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Britannic Bold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Possessive nou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100 Answer from H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1747440" y="3168720"/>
            <a:ext cx="663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Britannic Bold"/>
              </a:rPr>
              <a:t>B) Possessive pronou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$200 Question from H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4"/>
          <p:cNvSpPr/>
          <p:nvPr/>
        </p:nvSpPr>
        <p:spPr>
          <a:xfrm>
            <a:off x="1011600" y="2666880"/>
            <a:ext cx="7880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People who are under medical car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Britannic Bold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Patie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Britannic Bold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Pash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Britannic Bold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Pati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200 Answer from H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2700360" y="3200400"/>
            <a:ext cx="360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Britannic Bold"/>
              </a:rPr>
              <a:t>C) Patient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300 Question from H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4"/>
          <p:cNvSpPr/>
          <p:nvPr/>
        </p:nvSpPr>
        <p:spPr>
          <a:xfrm>
            <a:off x="1943640" y="2514600"/>
            <a:ext cx="4797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A government group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Britannic Bold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Counci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Britannic Bold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Couns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Britannic Bold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Consel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300 Answer from H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2318040" y="2819520"/>
            <a:ext cx="338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Britannic Bold"/>
              </a:rPr>
              <a:t>A) Counci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400 Question from H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4"/>
          <p:cNvSpPr/>
          <p:nvPr/>
        </p:nvSpPr>
        <p:spPr>
          <a:xfrm>
            <a:off x="1927800" y="2362320"/>
            <a:ext cx="46598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Suspicion is only a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A) Ver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Britannic Bold"/>
              <a:buAutoNum type="alphaU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 </a:t>
            </a: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Indirect Objec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Britannic Bold"/>
              <a:buAutoNum type="alphaU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 </a:t>
            </a: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Nou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400 Answer from H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2737440" y="2743200"/>
            <a:ext cx="278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Britannic Bold"/>
              </a:rPr>
              <a:t>C) Nou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$100 Question from H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4"/>
          <p:cNvSpPr/>
          <p:nvPr/>
        </p:nvSpPr>
        <p:spPr>
          <a:xfrm>
            <a:off x="197280" y="2743200"/>
            <a:ext cx="887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In what place in a title do yo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always capitalize words and what word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do you never capitaliz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100 Answer from H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"/>
          <p:cNvSpPr/>
          <p:nvPr/>
        </p:nvSpPr>
        <p:spPr>
          <a:xfrm>
            <a:off x="38880" y="2133720"/>
            <a:ext cx="75567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*Capitalize the first and last wo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Don’t capitalize a, an, th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Don’t capitalize the Fanboys.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100 Answer from H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"/>
          <p:cNvSpPr/>
          <p:nvPr/>
        </p:nvSpPr>
        <p:spPr>
          <a:xfrm>
            <a:off x="1889280" y="31212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295280" y="3124080"/>
            <a:ext cx="58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Kindergarten with a </a:t>
            </a:r>
            <a:r>
              <a:rPr b="0" lang="en-US" sz="3600" spc="-1" strike="noStrike" u="sng">
                <a:solidFill>
                  <a:srgbClr val="00ffff"/>
                </a:solidFill>
                <a:uFillTx/>
                <a:latin typeface="Britannic Bold"/>
              </a:rPr>
              <a:t>t</a:t>
            </a: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, not a </a:t>
            </a:r>
            <a:r>
              <a:rPr b="0" lang="en-US" sz="3600" spc="-1" strike="noStrike" u="sng">
                <a:solidFill>
                  <a:srgbClr val="00ffff"/>
                </a:solidFill>
                <a:uFillTx/>
                <a:latin typeface="Britannic Bold"/>
              </a:rPr>
              <a:t>d</a:t>
            </a: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$200 Question from H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4"/>
          <p:cNvSpPr/>
          <p:nvPr/>
        </p:nvSpPr>
        <p:spPr>
          <a:xfrm>
            <a:off x="624240" y="2666880"/>
            <a:ext cx="853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When using the word “myself,”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what word must  you put in front of it?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200 Answer from H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2412360" y="2743200"/>
            <a:ext cx="353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Britannic Bold"/>
              </a:rPr>
              <a:t>The word “I.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300 Question from H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4"/>
          <p:cNvSpPr/>
          <p:nvPr/>
        </p:nvSpPr>
        <p:spPr>
          <a:xfrm>
            <a:off x="526680" y="2743200"/>
            <a:ext cx="83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When do you use whom and who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300 Answer from H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4"/>
          <p:cNvSpPr/>
          <p:nvPr/>
        </p:nvSpPr>
        <p:spPr>
          <a:xfrm>
            <a:off x="1688760" y="3168720"/>
            <a:ext cx="597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*Use whom in place of hi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*Use who in place of 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400 Question from H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4"/>
          <p:cNvSpPr/>
          <p:nvPr/>
        </p:nvSpPr>
        <p:spPr>
          <a:xfrm>
            <a:off x="1725480" y="3168720"/>
            <a:ext cx="686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How do you correctly fill out 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envelope? (12 step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400 Answer from H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m_button"/>
          <p:cNvPicPr/>
          <p:nvPr/>
        </p:nvPicPr>
        <p:blipFill>
          <a:blip r:embed="rId1"/>
          <a:stretch/>
        </p:blipFill>
        <p:spPr>
          <a:xfrm>
            <a:off x="152280" y="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4"/>
          <p:cNvSpPr/>
          <p:nvPr/>
        </p:nvSpPr>
        <p:spPr>
          <a:xfrm>
            <a:off x="-355680" y="923760"/>
            <a:ext cx="98413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1) Blue or black 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2) Title for addresse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3) All capitals, block sty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4) No punc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5) Business name on 2</a:t>
            </a:r>
            <a:r>
              <a:rPr b="0" lang="en-US" sz="2400" spc="-1" strike="noStrike" baseline="30000">
                <a:solidFill>
                  <a:srgbClr val="00ffff"/>
                </a:solidFill>
                <a:latin typeface="Britannic Bold"/>
              </a:rPr>
              <a:t>nd</a:t>
            </a: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 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6) First and last name for person addres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7) Block printing spaced legi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8) Two capital letters for state ab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9) Zip code on same line as the st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10) Four digit code is box number plus enough zeroes 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make four digi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11) Abbreviations for common words such as street, avenu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and boulevar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12) P.O. box number by itself on the line above the city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st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100 Question from H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4"/>
          <p:cNvSpPr/>
          <p:nvPr/>
        </p:nvSpPr>
        <p:spPr>
          <a:xfrm>
            <a:off x="134280" y="2743200"/>
            <a:ext cx="835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Would you use can’t hardly or ca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hardly?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100 Answer from H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4"/>
          <p:cNvSpPr/>
          <p:nvPr/>
        </p:nvSpPr>
        <p:spPr>
          <a:xfrm>
            <a:off x="3048120" y="3048120"/>
            <a:ext cx="297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Britannic Bold"/>
              </a:rPr>
              <a:t>Can hardl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200 Question from H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4"/>
          <p:cNvSpPr/>
          <p:nvPr/>
        </p:nvSpPr>
        <p:spPr>
          <a:xfrm>
            <a:off x="-213840" y="2971800"/>
            <a:ext cx="963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Britannic Bold"/>
              </a:rPr>
              <a:t>How do you separate a noun from the rest of th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Britannic Bold"/>
              </a:rPr>
              <a:t>sentence?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200 Answer from H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4"/>
          <p:cNvSpPr/>
          <p:nvPr/>
        </p:nvSpPr>
        <p:spPr>
          <a:xfrm>
            <a:off x="2692440" y="2666880"/>
            <a:ext cx="374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Britannic Bold"/>
              </a:rPr>
              <a:t>Use a comm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200 Question from H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-252000" y="2666880"/>
            <a:ext cx="9291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Even though the spelling of Moral a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Morale differ by only one letter, their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Definitions differ by a lot. Define both</a:t>
            </a: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300 Question from H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4"/>
          <p:cNvSpPr/>
          <p:nvPr/>
        </p:nvSpPr>
        <p:spPr>
          <a:xfrm>
            <a:off x="742680" y="3102120"/>
            <a:ext cx="857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Britannic Bold"/>
              </a:rPr>
              <a:t>When a sentence begins with there, what i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Britannic Bold"/>
              </a:rPr>
              <a:t>the rule?</a:t>
            </a: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300 Answer from H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4"/>
          <p:cNvSpPr/>
          <p:nvPr/>
        </p:nvSpPr>
        <p:spPr>
          <a:xfrm>
            <a:off x="975960" y="2971800"/>
            <a:ext cx="814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The verb must agree in number with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the noun that follow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400 Question from H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698400" y="2971800"/>
            <a:ext cx="804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When do you capitalize seasons?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400 Answer from H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4"/>
          <p:cNvSpPr/>
          <p:nvPr/>
        </p:nvSpPr>
        <p:spPr>
          <a:xfrm>
            <a:off x="1759680" y="274320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Britannic Bold"/>
              </a:rPr>
              <a:t>Only when personified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500 Question from H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4"/>
          <p:cNvSpPr/>
          <p:nvPr/>
        </p:nvSpPr>
        <p:spPr>
          <a:xfrm>
            <a:off x="1770840" y="3168720"/>
            <a:ext cx="672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What do you avoid using in “if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clauses?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500 Answer from H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4"/>
          <p:cNvSpPr/>
          <p:nvPr/>
        </p:nvSpPr>
        <p:spPr>
          <a:xfrm>
            <a:off x="2520720" y="2819520"/>
            <a:ext cx="383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Britannic Bold"/>
              </a:rPr>
              <a:t>Would have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ritannic Bold"/>
              </a:rPr>
              <a:t>Final Jeopard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26360" y="2438280"/>
            <a:ext cx="8108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This author wrote, “If one man kill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another, it  murder, but if a hundre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thousand men kill another hundre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thousand, it is considered 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act of glory!?”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final_Q.wav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m_button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ritannic Bold"/>
              </a:rPr>
              <a:t>Final Jeopardy 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1364040" y="2766960"/>
            <a:ext cx="4644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Britannic Bold"/>
              </a:rPr>
              <a:t>Who is Tolsto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Britannic Bold"/>
              </a:rPr>
              <a:t>(The book i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Britannic Bold"/>
              </a:rPr>
              <a:t>Kingdom of Go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4" name="Picture 4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200 Answer from H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4"/>
          <p:cNvSpPr/>
          <p:nvPr/>
        </p:nvSpPr>
        <p:spPr>
          <a:xfrm>
            <a:off x="-224280" y="2971800"/>
            <a:ext cx="9330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Moral – pertains to sense of right or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Morale – pertains to persons mood or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                  </a:t>
            </a: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level of spirit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300 Question from H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853920" y="2971800"/>
            <a:ext cx="812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What is the way to remember how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spell congratulations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300 Answer from H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1889280" y="3168720"/>
            <a:ext cx="474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You say congrat’s not congrad’s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400 Question from H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"/>
          <p:cNvSpPr/>
          <p:nvPr/>
        </p:nvSpPr>
        <p:spPr>
          <a:xfrm>
            <a:off x="-278280" y="2743200"/>
            <a:ext cx="1002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When changing mischief to mischievous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what letter do you drop?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400 Answer from H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4"/>
          <p:cNvSpPr/>
          <p:nvPr/>
        </p:nvSpPr>
        <p:spPr>
          <a:xfrm>
            <a:off x="3619440" y="2825640"/>
            <a:ext cx="243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Britannic Bold"/>
              </a:rPr>
              <a:t>The “F.”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213012</cp:lastModifiedBy>
  <dcterms:modified xsi:type="dcterms:W3CDTF">2010-05-19T18:49:32Z</dcterms:modified>
  <cp:revision>21</cp:revision>
  <dc:subject/>
  <dc:title>Jeopardy</dc:title>
</cp:coreProperties>
</file>